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7.jpeg" ContentType="image/jpeg"/>
  <Override PartName="/ppt/media/image13.png" ContentType="image/png"/>
  <Override PartName="/ppt/media/image11.jpeg" ContentType="image/jpeg"/>
  <Override PartName="/ppt/media/image8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5.png" ContentType="image/png"/>
  <Override PartName="/ppt/media/image6.jpeg" ContentType="image/jpeg"/>
  <Override PartName="/ppt/media/image10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AB07-1E66-4C3A-AAF0-E407F23AE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C9C6-50B0-4651-83C2-D0216078E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7D5915-5378-4170-8166-DFE569E4D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837B6F-89CD-4144-8FCA-15133F1F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76095C-3D1E-4F75-B380-98F43316D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1E5F2E-A0BF-4267-8D1E-886B0985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1A60D6-C5B2-4608-B8E2-4FCBF335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415EF7-532F-44A8-9BF5-4FB6E83C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FD38BA-AF32-45AA-A087-BD251931B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364CF2-F5C0-42F6-A83F-125314D12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6103D1-B9BE-4042-901F-CAD5B46BE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874444-51D6-4D3F-A2CA-5E9AAE957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D1E2-CCD6-4EF5-96A6-C8F25F857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FFF1E0-10D6-47D6-9749-D6F616640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DCA505-EA81-402E-B617-CB9CD92BB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F52A27-C8D0-4656-B2FC-EF49FEDAB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46331B-371B-4E71-B323-60AAD1BF3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5504DB-E503-4F52-B6DC-52BB51A49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28EBFF-581D-4A59-BDC6-92E26C32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BB9AD7-1BDF-4846-BFC8-AD67B3BE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45D297-B813-413A-86FC-36BE0A4C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CB8F25-3E47-4EAB-B862-6D682D970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8204C8-95EE-444F-AAC1-7740F1153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E5A6-BCB0-40FC-A870-000CE1936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613C78-F3D9-4FDE-B2FC-E3277B90E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61F439-34F5-4C9D-949D-D623919F7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A4E138-D742-4E98-94F5-8DF31602B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A9B43F-A04B-4933-859E-B8820AB71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14044D-BE74-4130-A199-F7C9FDAB6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610F58-DD81-4BB1-AC26-5221FB2EB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F16049-A82B-4DB2-A688-FC2A91D3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A1CE84-9F6C-4D57-91C5-5EDFB153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A901ED-E852-4BA0-BEA5-8A22A565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02C8EF-2A22-4C03-BDE0-77909366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6C7F8-5E6B-48C4-8690-8135EB3E2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17D4BA-6459-4FD8-81E9-ED025E4D9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96E7F6-9998-42D4-9EF6-AAAFAA312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553B33-EF22-4FC0-9410-F7E0BF8E3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F3E6F3-ECB5-4708-89B3-62F531E02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E1F760-E68E-481D-96C3-784FBDF34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D75A35-23F1-434A-85A7-39201F096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3F001B-B80C-45A7-AB07-92EF324E9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C618DD-5243-4409-9B36-A94A25D53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25E879-4EEA-41B3-9142-ABD345491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F72549-86CF-43F1-825B-E35A2E27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03FC8-334B-4244-9A9A-53A5C3F80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C3E453-A3D0-4E71-A302-38A91B36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7B10BC-BC06-4C78-B6A0-5E42ABBC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6D58DD-8745-4EA5-AA40-825374BBB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8DDB71-EB2A-4CF3-ABF3-C557D8826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FA2A4B-4728-49C9-B6D4-79C96DB88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956C1D-52EF-4005-9EBF-A0E81A7C1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2C10A4-3B75-4BE2-B973-C4B1F9D5D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ADF0CE-52F2-4CEC-A873-070A17573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399EDC-DA98-4548-8F93-1E424450E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D7E4B8-B117-485F-B62F-66DE2C0AE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05491-A100-4957-B503-3007F3A31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669863-00CF-48BD-9EAB-BFCCF11DE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465FB3-D6A3-4849-BFD0-CB3B460C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502A6B-BE76-437B-814B-A5BE1739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7EE4B0-71B5-4CBE-BEC9-CF84E720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31B006-69A6-445E-B5DB-EDDC7C86D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E58F5F-489F-4290-8F46-768A05ACF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76CF7F-E313-42BD-935F-46B25BA0A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5D21D2-9EC8-4112-8A38-70BE61438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5F86B0-9622-4F9E-A882-852F73B55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E30E84-C5EF-444F-B6EB-EA964F245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EF2D7-7ABE-4B22-A069-7E45DC6B4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606146-A55D-4656-9629-D55C569D3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0DA081-E379-40CD-BC77-C60F9D6AE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E1D4EE-585C-45A3-A9CB-F898FF6F4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AFF334-C82B-454F-939C-E7D3630E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EFDB98-2FCB-44C8-969B-52189CC0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CCD607-A904-4A0A-865C-744C0793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8C40E9-15F4-4C02-933D-29AFABE80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BB4146-E1F2-4034-BBFA-74F737A2E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FF2789-9431-47F5-B132-8EB025FDB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D24FCB-935A-43EA-B9D8-D051908BA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97598-4643-44EB-A4F5-A46E7DC9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08530E-E3DA-4E1F-BB3C-A77021FFF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5C8189-C842-4739-A646-83789EE1B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D55BCB-3500-472A-A7CB-C48579ACA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36B7F2-88F9-48EF-BC2D-730C2D650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217EA0-6E13-4858-81ED-F8AA2D46D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11CDAF-4398-4A7F-9017-9E9C1EA3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DE108D-830D-4724-931A-F0EFC615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4CF8D1-A253-4EA7-8340-1BF5A224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ED520E-AB1A-4D94-A524-C1C1E45A4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A6EC5D-3A99-4D3A-8209-771A0AB4D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6EEF5-2436-4074-BB2F-1B00F626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8F20FC-451F-4E7C-80E9-CA6F7C9F9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4D67C0-5217-4CE0-92D3-BDF2160A9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3BAEE4-C424-47C7-8A44-19140FFEF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5FBE03-BA3C-4214-B02D-4D31618B5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1399DD-0308-4DFD-9A0F-AD618FE66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2DCC9E-15C3-495B-B537-49BA92EA9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18D2F0-1510-40A9-ADD4-A0977065B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DE0845-10A9-4376-95B9-E75B8AA6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64E605-03EE-426D-89C1-4CF7B313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2B5E62-A758-4D4D-9FDF-5B662417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0DDFF-2993-4EE1-9D6C-A04B6F85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CDBB8B-7109-466B-A931-338A6C392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F86C47-D397-4128-A40F-FDD06F28B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2EC0A3-4532-4065-BD76-00100683F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3A1D23-3EF0-4F99-B353-1B90C1926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994211-8AEC-4820-A9D1-A3C4CCB9A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125A48-2266-405A-B705-8B67350A5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704946-8E90-4500-B946-B2F581122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689DF1-6BD6-4663-A5E5-95E50219C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96A9E7-FFA3-4705-8D87-D10C2D764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18633E-CC17-4C08-9CA4-A08965A5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1044-4D79-437B-BC08-E40F17F9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4E3CB-5B47-400C-A5A9-F6F75EF7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2B3E9E-10E3-4213-A494-C72742D9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F35437-6A9E-4A5D-9861-41317C6A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6863E9-475A-433A-9BC1-A3810649F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541ABE-DACB-42A6-B37D-F6292B000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2D086F-563E-49D5-818E-0D8B27212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0AE448-B06F-418D-B440-F71DFB9B1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284AA4-DE2F-411A-B3F9-5346FB78E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BBE5F1-9207-47DC-87E1-0ACCCEAEF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CD069C-5B26-4051-9297-2DCB64434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C171AB-E16C-496C-8614-24F37B89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A2BCC-29A6-4D8C-8C4A-0D62C20B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10B924-3CF2-4D3D-88EA-0AD8670F2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A6C918-B4C3-4966-AEEF-44A75C79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4F6AB7-B833-489A-A889-4CAD368F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243F2A-425D-4151-BACD-07E19468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F345BB-5733-429B-B57E-D4F47F352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5182EF-A322-4CCD-8769-E65B89FBB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05E26F-3E2B-4691-908D-E1E0C92B6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B93ADF-2096-4EB4-9E3F-B362AEC2B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5094C6-9AA7-4F84-B2CF-C54720AA7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18FDD0-134F-4DFA-8EDB-ADC5A4103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56935-826E-4CC2-8895-5EC57F127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FC4C36-E1D0-4081-8DAE-964380D23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D2A7BA-36CB-49FC-917E-43C64004A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477338-F821-463F-BC73-547C9511F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F9CF48-F87E-4CF5-B45C-5E35A238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73A282-62F5-4938-9881-A82D1193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105A7E-9705-4EF3-B81C-5306B238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3AE7D8-96B9-4E91-B482-8182782D4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971CFE-73A7-40BE-AC4D-6483168E8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5146C8-5008-4A57-A15F-ACBEFB135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522D83-EBF7-4311-9DB4-B2B6F8D78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96DC0-5D31-4C0E-BC3D-62C4B454A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3506E4-A55F-4AD9-9C8F-C0E83113C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FF6A70-4989-456E-8BBA-FA5D751AB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78BF7C-7639-40D0-AF76-56B8C28F0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3025D4-6DAC-4370-95D7-A5F46CABB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83E4B6-2D91-4CE0-B658-4E44135E9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1FFEFB-3003-48EF-91EB-A776A8EC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A0305B-2267-4D8D-B3F9-792A1385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77B1A0-44D0-4A22-8260-982910D0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5ECF07-23F1-43AC-9BFF-5E3BDC34F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BADFC1-CB54-4319-9BE0-1BBE1BB69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91638-1F17-4AB6-ADD7-F996C794B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8A217B-F69D-4AEE-8356-A359ED846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2867D1-6095-47D7-87C2-CADE80782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81C51A-FB9D-4444-A0FC-204B765DC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0AC7B5-8966-4D2C-89EB-EDEBB4B20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733BBE-7122-4ED0-8C43-61E3888D6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2C1A62-4F69-45C0-965F-AE7B3CDC7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35FFBF-0253-4AAD-AE05-8F56400EA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C93C3E-B03E-4970-B777-570E35C3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A633E5-3C6E-4F3E-A4E0-2F27B9E6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D96B9F-C2BF-486D-AC08-B66953FB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5C5D9-6737-418B-AF65-FA0A77FC2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9A7E70-FF27-4B7E-B1A8-56BAFB23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E1B051-E2EB-49ED-94AF-8F7F3E7DF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CFD397-A36F-4E2A-AD60-1C3F02F0D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8DE1201-112B-4294-BC0A-4BA4906CE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66141CC-5C49-4E65-8762-FDC18BEE8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DADF5F0-360A-4F66-926B-C516193F1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95AEECD-A73F-4EF4-ACD7-71C42A60B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E564D6F-4CB9-406E-8F86-694C13F21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3FB8CB6-341A-41D8-8B44-CB5DD9971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9E14CB9-38C6-4A1C-A491-9BF26C0E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27C35-49C0-408C-B0EF-7EB99E7FA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0AF009D-798C-4081-B5D8-72C15EE4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4827E93-9E4B-47A3-83A2-47101ACB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E07B4C-4BE9-4597-8B49-6DF109940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0D798F5-9B97-4F94-8290-385EE87BC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810155-A827-44A3-B49B-07BEB2B65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68C3622-C58F-463D-850E-2F389D511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D773964-229B-4E71-B68C-1EE2F3A3D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6771848-16F7-402E-A31F-CD3D21B16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F87B0C2-3EA1-48C7-BB4D-2553D33F1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EFCA26F-041D-403B-B42F-4FA032F4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F75B3-24B5-41C4-9600-47CEFFA06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BDAA475-1F6F-4D3F-BD59-768B49338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BD90A6F-0784-49AA-B427-CE3A3978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0B7CACB-E9A2-4EDF-8B9F-39EAD703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E2EE01A-0A51-4ED6-9E9F-7993EEC4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234E573-F69E-49FF-8A19-31EB2F9E4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753392E-9D71-4AFD-997C-58811082C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AD73204-75E3-4758-BA42-C932C1A1F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16E910F-44B9-4C66-B1B7-3BB6E1B9F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41BF2B1-ABEF-4344-B708-A050BD7F4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E15A5D7-F328-4653-83C8-4C8B35CFA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B2B1C-0616-4441-8C1A-4FA5111D3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61F8DD5-D846-4432-BB3E-EA1358685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53C5387-7CAB-47A8-B30B-A43E6662B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3FF168D-E836-4BFE-9F0B-2DBABA3A5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E1536B1-6880-48FC-9A84-9847B01B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4DA06FF-8B4F-4605-A744-1CC61D44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917FC36-5FCE-4849-994E-64B2AD85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90A4F83-BDA2-4177-972C-8A1E38AAA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34170D8-B640-4D9E-925A-B1C940E49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CB47600-C255-4356-BBC5-01AA0CBD0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B8AF0AE-72C3-4DC8-8806-8CEE09F38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73D84-30D3-4709-9C4F-408BD0903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5F91CE8-82AE-4854-818D-86D579903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55A263A-C3DD-4AE2-A99E-25549DB48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D879380-A70B-4894-8D3D-6B557283A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7A44179-364B-422C-B078-DA2998F23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E7723E9-9F15-4A5B-9FC2-CE2173188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9F961FA-8A44-42F2-BAA5-CAD80492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3A03CC2-B437-473E-A94C-36E77E7E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26BE199-4458-46DA-B737-D0873A90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40641F8-6623-4167-B91B-04C0504E9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2EA33D9-420B-4F69-B97B-54E98E07A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534C-C994-45E6-8EF1-9EB135F6C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2B17E-DACC-4222-8726-E98490FB1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FE31BB8-8128-43CC-9902-C9A0DE973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5D10F-E4E6-491F-A163-0A9A3DCA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F7063-C8F0-4731-9BF9-4A1B93E1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3A509-6743-49DF-B59B-CDF7234F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C23AF-E526-49F7-9CEF-083D75E19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603FF-9AD6-44DC-9B82-F8FA07D18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5CAFD-8E4A-487D-8A4F-D72B4B3CB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1B7B3-B8C6-424D-9E9D-5DA8FFC10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191D8-D94F-4BEF-A287-45D162397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D4FCE-8251-47BF-B305-B5536492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A053-BE05-4E3E-9438-CE2FFEA01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69512-64D7-421E-90F8-FA042548F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0EBF5-B34E-43D3-8EB3-13EABCA6E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20478-51C9-4363-BBFA-288E14E32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83BBE-2A80-4702-B9EF-6992CBB4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C7F11-EAD2-4423-BD1B-64F2E2EB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E1491-ABF9-4D71-B91A-6E14652F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C2DE3-DD9C-4C0F-BD0B-78C1C6DF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8E27B-FB96-4D85-B0F6-96FEE7BD1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E507B-CE37-4BEE-9A66-C29EF67F2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18E71-7E32-491E-AAF6-E251305E3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8D61-788F-4E53-9FBD-D31987F64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B7382-8B8C-48F6-A4AF-5C01AD67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82194-C8AF-4A5E-8EED-901F760C2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AC0EA-F4A4-4CA2-AC7D-D24F7676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A1F47-059A-44E5-A795-21867E65E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18651-491C-4F09-9E18-928FE3922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A3164-09EC-4928-BC86-DE40E86B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78051-3A09-4CCA-BA89-5482AA2B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B5BE6-1182-46B7-B09B-C7B6FC67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40331-1FFA-4AF5-862B-758A9578B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68AED-7D66-4CE1-AACE-238F40F8F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8EAE-D04B-497E-B809-DA6E9AAAE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8A623-6B7E-4DFC-BE7A-A366F06D6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B21FD-E515-4EAB-8100-8E9B105E8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8ABA4-9878-4CDD-B592-FF7E54587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F3DE4-7351-439F-BD05-E1DBB3A2B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D96A5-E83E-4C09-A435-05CBB0841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A9CA5-3DE6-43A2-B5F8-5B7F78AFD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8AF43-C953-4FF9-92D3-972F8A17F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95D09-BA2B-498D-A001-74C1366B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93F4C-070A-428F-A360-76D0F52E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09444-3D6D-4D90-BAAC-31C0441C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5504-EDE2-4B45-800E-0A8B4C52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2038D-C67E-4324-92C2-1FBCCA584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29B49-8AAA-4DFD-B40B-AE248B978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D72EA-E43D-480B-9A65-DE70E14DB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58074D-67AC-415A-A42E-14EAA1C6B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FF2DEC-95BF-490C-B1C6-9B6517F35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AB8D2B-B4E7-4D57-A9E4-BE1D1358A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5AFAF3-F1A6-426E-ACBF-115475422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B5A8A-534B-4D2F-92AF-1E779C49A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A5079A-6C13-47D1-8386-86432D8EE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933E3-51C4-49E4-B42E-4D0C9ECA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281E-C276-430E-B19E-41D13F03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F5BC3-1000-4C22-A90D-7E0E2FBE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C4A28-B761-45F8-B8FD-964C1ADE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CEA9BE-B8AC-47B4-9DA8-7EED09174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20EB5-0545-459F-B0FF-89FEC3639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C5124C-9032-4FCD-BFD3-C12548C4D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67F3D9-09DC-4441-932E-A4E0E6760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39F97A-0E26-4655-9370-B18C758F8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F09E3-6E36-4F08-BF72-EC8322E1E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3AFD70-5E2E-4519-9904-D4BDBC2BF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FC2818-189C-42E1-9C55-4D0AB64AC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12F4-20A2-4CC4-8C94-45E2CA0F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0CE5E3-7AAA-4C43-88DE-B6A1A8E22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F83E27-1C5B-4706-81A3-58C22896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9E6A62-1FA9-4D38-9542-8D0A4DC5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9F3AC-66B8-42D2-8B62-C6A24543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32E5B0-9F9A-474C-8D3E-6E537BFFE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F47F36-8B6B-44C7-8BE4-E14AAA637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20CA6A-ACF3-4492-A4EC-80776DC50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120B02-1C8C-4DE1-9079-9F8253804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95F0D7-1540-4F2E-ADDE-B1C672241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57AE19-378F-4B77-B8AB-486EC0B8D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BB45A-B994-460B-B6B2-CB5E65238AB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8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9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30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DC462-882B-4439-8A4B-326FF91F624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31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32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33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71391-9244-4355-9F1E-A1CA1A4CAE6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4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5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6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30227-D5C1-4A87-9947-DA8AF9480AA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7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38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9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7F005-D2C6-4805-86D3-B7F5621F224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9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50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2F12C-76FB-4F2E-AC76-B75DF6CFFF8C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607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36966-1976-4090-A300-1B8CA77FB575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3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664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6F016-0801-47FD-AF2B-A0F2A8F41A9F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72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365FB-4423-40A5-8405-EBD17B390865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77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 type="dt" idx="5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86E9A-6139-4EBE-B93D-1B62C71099DA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835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 type="dt" idx="5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6AC03-0F1C-4319-9419-81E2F480CA37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42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17506-3452-4CED-B457-C2A6A1E3FC72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1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892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 type="dt" idx="5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4B164-797D-4D3A-B3EA-00E0BCD1DB06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949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01664-C947-4156-95F4-A5A5EAE56DA5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5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06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 type="dt" idx="6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72971-0E68-4B4F-8D56-D7C97377BEB1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63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 type="dt" idx="6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8F1DB-0A82-4A3B-8065-CD7AC2D1519B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9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20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7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8FC90-2584-449C-B599-C697ECF2ADF6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77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 type="dt" idx="7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0C8A2-A9F8-446A-B435-11792A4B43CA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D9EB7-0514-4C7B-A90D-1435EC5D42B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2171D-720F-4FB6-ADCD-7FF2610CAB6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529D7-CB70-416E-9CB0-DAAD5145A18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B5C54-7017-45AE-8A26-1AA4D4CED8A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AEF08-4542-478C-B53F-362D3424B8C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58C02-86C8-46AC-856A-FAE388B52B6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3EE8C-FBC4-436C-BEF0-27B39D53615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2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6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6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2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6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9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3" name="Picture 2" descr=""/>
          <p:cNvPicPr/>
          <p:nvPr/>
        </p:nvPicPr>
        <p:blipFill>
          <a:blip r:embed="rId1"/>
          <a:stretch/>
        </p:blipFill>
        <p:spPr>
          <a:xfrm>
            <a:off x="0" y="-76320"/>
            <a:ext cx="9144000" cy="701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6" name="Picture 4" descr="Картинка 2 из 10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6876720" y="304920"/>
            <a:ext cx="1733400" cy="1179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8" name=""/>
          <p:cNvSpPr txBox="1"/>
          <p:nvPr/>
        </p:nvSpPr>
        <p:spPr>
          <a:xfrm>
            <a:off x="611280" y="5445000"/>
            <a:ext cx="79214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Была распространена и голубиная почта. Почтовых голубей приучали разносить письма из города в город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9" name="Picture 4" descr="4504[1]"/>
          <p:cNvPicPr/>
          <p:nvPr/>
        </p:nvPicPr>
        <p:blipFill>
          <a:blip r:embed="rId1"/>
          <a:stretch/>
        </p:blipFill>
        <p:spPr>
          <a:xfrm>
            <a:off x="755640" y="189000"/>
            <a:ext cx="763272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6876720" y="304920"/>
            <a:ext cx="1733400" cy="1179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1" name=""/>
          <p:cNvSpPr txBox="1"/>
          <p:nvPr/>
        </p:nvSpPr>
        <p:spPr>
          <a:xfrm>
            <a:off x="611280" y="5445000"/>
            <a:ext cx="79214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72" name="Picture 4" descr="Памятники почтовым голубям во Франици в Англии - Картинка 13283/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TextBox 1"/>
          <p:cNvSpPr/>
          <p:nvPr/>
        </p:nvSpPr>
        <p:spPr>
          <a:xfrm>
            <a:off x="0" y="620640"/>
            <a:ext cx="8101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сурс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new.nnov.org/new/1511028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autotravel.ru/phalbum.php/90185/1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viktor-tsoy.com/gallery/50-post_mark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commons.wikimedia.org/wiki/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go.mail.ru/search_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culture.natm.ru/gashenie-pervogo-dnya-yubileynoy-marki-vypuschennoy-special-no-k-1150-letiyu-velikogo-novgoroda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etnaa.mylivepage.ru/image/3502/190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intuit.ru/department/history/ithistory/3/2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03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Презентацию выполнила </a:t>
            </a:r>
            <a:br>
              <a:rPr sz="3600"/>
            </a:b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учитель начальных классов </a:t>
            </a:r>
            <a:br>
              <a:rPr sz="3600"/>
            </a:b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МКОУ Починковская ООШ</a:t>
            </a:r>
            <a:br>
              <a:rPr sz="3600"/>
            </a:b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Арасланова Г.Г.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102200" cy="7491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Словарь С.Ожегова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subTitle"/>
          </p:nvPr>
        </p:nvSpPr>
        <p:spPr>
          <a:xfrm>
            <a:off x="179280" y="1628640"/>
            <a:ext cx="878544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«Письмо – написанный текст, посылаемый кому – нибудь для сообщения чего – нибудь»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36" name="Picture 4" descr="Einbrief"/>
          <p:cNvPicPr/>
          <p:nvPr/>
        </p:nvPicPr>
        <p:blipFill>
          <a:blip r:embed="rId1"/>
          <a:stretch/>
        </p:blipFill>
        <p:spPr>
          <a:xfrm>
            <a:off x="1692360" y="3429000"/>
            <a:ext cx="50673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Picture 2" descr=""/>
          <p:cNvPicPr/>
          <p:nvPr/>
        </p:nvPicPr>
        <p:blipFill>
          <a:blip r:embed="rId1"/>
          <a:stretch/>
        </p:blipFill>
        <p:spPr>
          <a:xfrm>
            <a:off x="3924360" y="1916280"/>
            <a:ext cx="5219640" cy="4422600"/>
          </a:xfrm>
          <a:prstGeom prst="rect">
            <a:avLst/>
          </a:prstGeom>
          <a:ln w="0">
            <a:noFill/>
          </a:ln>
        </p:spPr>
      </p:pic>
      <p:pic>
        <p:nvPicPr>
          <p:cNvPr id="1238" name="Picture 3" descr=""/>
          <p:cNvPicPr/>
          <p:nvPr/>
        </p:nvPicPr>
        <p:blipFill>
          <a:blip r:embed="rId2"/>
          <a:stretch/>
        </p:blipFill>
        <p:spPr>
          <a:xfrm>
            <a:off x="422280" y="620640"/>
            <a:ext cx="389556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9" name="Picture 2" descr="C:\Documents and Settings\Supervisor.NONE\Рабочий стол\квартира\письмо.jpg"/>
          <p:cNvPicPr/>
          <p:nvPr/>
        </p:nvPicPr>
        <p:blipFill>
          <a:blip r:embed="rId1"/>
          <a:stretch/>
        </p:blipFill>
        <p:spPr>
          <a:xfrm>
            <a:off x="357120" y="1071720"/>
            <a:ext cx="8458200" cy="5357520"/>
          </a:xfrm>
          <a:prstGeom prst="rect">
            <a:avLst/>
          </a:prstGeom>
          <a:ln w="0">
            <a:noFill/>
          </a:ln>
        </p:spPr>
      </p:pic>
      <p:sp>
        <p:nvSpPr>
          <p:cNvPr id="1240" name="TextBox 2"/>
          <p:cNvSpPr/>
          <p:nvPr/>
        </p:nvSpPr>
        <p:spPr>
          <a:xfrm>
            <a:off x="571680" y="285840"/>
            <a:ext cx="792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Этапы путешествия пись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1" name="Рисунок 4" descr="https://ds05.infourok.ru/uploads/ex/0c32/00024299-ce14bb12/img8.jpg"/>
          <p:cNvPicPr/>
          <p:nvPr/>
        </p:nvPicPr>
        <p:blipFill>
          <a:blip r:embed="rId2"/>
          <a:srcRect l="80157" t="70971" r="6646" b="8866"/>
          <a:stretch/>
        </p:blipFill>
        <p:spPr>
          <a:xfrm>
            <a:off x="4000680" y="1357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242" name="Рисунок 5" descr="https://ds05.infourok.ru/uploads/ex/0c32/00024299-ce14bb12/img8.jpg"/>
          <p:cNvPicPr/>
          <p:nvPr/>
        </p:nvPicPr>
        <p:blipFill>
          <a:blip r:embed="rId3"/>
          <a:srcRect l="80157" t="29270" r="3421" b="46089"/>
          <a:stretch/>
        </p:blipFill>
        <p:spPr>
          <a:xfrm>
            <a:off x="5429160" y="1357200"/>
            <a:ext cx="1214640" cy="1143000"/>
          </a:xfrm>
          <a:prstGeom prst="rect">
            <a:avLst/>
          </a:prstGeom>
          <a:ln w="0">
            <a:noFill/>
          </a:ln>
        </p:spPr>
      </p:pic>
      <p:pic>
        <p:nvPicPr>
          <p:cNvPr id="1243" name="Рисунок 6" descr="https://ds05.infourok.ru/uploads/ex/0c32/00024299-ce14bb12/img8.jpg"/>
          <p:cNvPicPr/>
          <p:nvPr/>
        </p:nvPicPr>
        <p:blipFill>
          <a:blip r:embed="rId4"/>
          <a:srcRect l="12323" t="34887" r="73996" b="40877"/>
          <a:stretch/>
        </p:blipFill>
        <p:spPr>
          <a:xfrm>
            <a:off x="6429240" y="2643120"/>
            <a:ext cx="1214640" cy="1214640"/>
          </a:xfrm>
          <a:prstGeom prst="rect">
            <a:avLst/>
          </a:prstGeom>
          <a:ln w="0">
            <a:noFill/>
          </a:ln>
        </p:spPr>
      </p:pic>
      <p:pic>
        <p:nvPicPr>
          <p:cNvPr id="1244" name="Рисунок 7" descr="https://ds05.infourok.ru/uploads/ex/0c32/00024299-ce14bb12/img8.jpg"/>
          <p:cNvPicPr/>
          <p:nvPr/>
        </p:nvPicPr>
        <p:blipFill>
          <a:blip r:embed="rId5"/>
          <a:srcRect l="7815" t="66478" r="77362" b="9108"/>
          <a:stretch/>
        </p:blipFill>
        <p:spPr>
          <a:xfrm>
            <a:off x="4643280" y="3000240"/>
            <a:ext cx="1214640" cy="1285920"/>
          </a:xfrm>
          <a:prstGeom prst="rect">
            <a:avLst/>
          </a:prstGeom>
          <a:ln w="0">
            <a:noFill/>
          </a:ln>
        </p:spPr>
      </p:pic>
      <p:pic>
        <p:nvPicPr>
          <p:cNvPr id="1245" name="Рисунок 8" descr="https://ds05.infourok.ru/uploads/ex/0c32/00024299-ce14bb12/img8.jpg"/>
          <p:cNvPicPr/>
          <p:nvPr/>
        </p:nvPicPr>
        <p:blipFill>
          <a:blip r:embed="rId6"/>
          <a:srcRect l="61417" t="41669" r="22657" b="31979"/>
          <a:stretch/>
        </p:blipFill>
        <p:spPr>
          <a:xfrm>
            <a:off x="3000240" y="342900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1246" name="Рисунок 9" descr="https://ds05.infourok.ru/uploads/ex/0c32/00024299-ce14bb12/img8.jpg"/>
          <p:cNvPicPr/>
          <p:nvPr/>
        </p:nvPicPr>
        <p:blipFill>
          <a:blip r:embed="rId7"/>
          <a:srcRect l="35087" t="66478" r="50417" b="8919"/>
          <a:stretch/>
        </p:blipFill>
        <p:spPr>
          <a:xfrm>
            <a:off x="1500120" y="4643280"/>
            <a:ext cx="1143000" cy="1285920"/>
          </a:xfrm>
          <a:prstGeom prst="rect">
            <a:avLst/>
          </a:prstGeom>
          <a:ln w="0">
            <a:noFill/>
          </a:ln>
        </p:spPr>
      </p:pic>
      <p:pic>
        <p:nvPicPr>
          <p:cNvPr id="1247" name="Рисунок 10" descr="https://ds05.infourok.ru/uploads/ex/0c32/00024299-ce14bb12/img8.jpg"/>
          <p:cNvPicPr/>
          <p:nvPr/>
        </p:nvPicPr>
        <p:blipFill>
          <a:blip r:embed="rId8"/>
          <a:srcRect l="35283" t="26745" r="49189" b="45722"/>
          <a:stretch/>
        </p:blipFill>
        <p:spPr>
          <a:xfrm>
            <a:off x="3714840" y="4929120"/>
            <a:ext cx="11430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f2f1"/>
            </a:gs>
            <a:gs pos="100000">
              <a:srgbClr val="ddddd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6"/>
          <p:cNvSpPr/>
          <p:nvPr/>
        </p:nvSpPr>
        <p:spPr>
          <a:xfrm>
            <a:off x="395280" y="765000"/>
            <a:ext cx="4249800" cy="2592720"/>
          </a:xfrm>
          <a:prstGeom prst="rect">
            <a:avLst/>
          </a:prstGeom>
          <a:solidFill>
            <a:srgbClr val="339966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9" name="Picture 4" descr="белый конверт"/>
          <p:cNvPicPr/>
          <p:nvPr/>
        </p:nvPicPr>
        <p:blipFill>
          <a:blip r:embed="rId1"/>
          <a:stretch/>
        </p:blipFill>
        <p:spPr>
          <a:xfrm>
            <a:off x="260280" y="665280"/>
            <a:ext cx="4384800" cy="2692440"/>
          </a:xfrm>
          <a:prstGeom prst="rect">
            <a:avLst/>
          </a:prstGeom>
          <a:ln w="0">
            <a:noFill/>
          </a:ln>
        </p:spPr>
      </p:pic>
      <p:sp>
        <p:nvSpPr>
          <p:cNvPr id="1250" name="Rectangle 7"/>
          <p:cNvSpPr/>
          <p:nvPr/>
        </p:nvSpPr>
        <p:spPr>
          <a:xfrm>
            <a:off x="4427640" y="3789360"/>
            <a:ext cx="4465440" cy="2736720"/>
          </a:xfrm>
          <a:prstGeom prst="rect">
            <a:avLst/>
          </a:prstGeom>
          <a:solidFill>
            <a:srgbClr val="339966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Text Box 8"/>
          <p:cNvSpPr/>
          <p:nvPr/>
        </p:nvSpPr>
        <p:spPr>
          <a:xfrm>
            <a:off x="2287440" y="22320"/>
            <a:ext cx="471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вер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бра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Text Box 9"/>
          <p:cNvSpPr/>
          <p:nvPr/>
        </p:nvSpPr>
        <p:spPr>
          <a:xfrm>
            <a:off x="1477800" y="4149720"/>
            <a:ext cx="92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3" name="Picture 10" descr="calligraphy"/>
          <p:cNvPicPr/>
          <p:nvPr/>
        </p:nvPicPr>
        <p:blipFill>
          <a:blip r:embed="rId2"/>
          <a:stretch/>
        </p:blipFill>
        <p:spPr>
          <a:xfrm>
            <a:off x="3564000" y="220500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1254" name="Picture 2" descr=""/>
          <p:cNvPicPr/>
          <p:nvPr/>
        </p:nvPicPr>
        <p:blipFill>
          <a:blip r:embed="rId3"/>
          <a:stretch/>
        </p:blipFill>
        <p:spPr>
          <a:xfrm rot="1484400">
            <a:off x="2906640" y="2576520"/>
            <a:ext cx="6481800" cy="5162400"/>
          </a:xfrm>
          <a:prstGeom prst="rect">
            <a:avLst/>
          </a:prstGeom>
          <a:ln w="0">
            <a:noFill/>
          </a:ln>
        </p:spPr>
      </p:pic>
      <p:pic>
        <p:nvPicPr>
          <p:cNvPr id="1255" name="Рисунок 1" descr=""/>
          <p:cNvPicPr/>
          <p:nvPr/>
        </p:nvPicPr>
        <p:blipFill>
          <a:blip r:embed="rId4"/>
          <a:stretch/>
        </p:blipFill>
        <p:spPr>
          <a:xfrm>
            <a:off x="5651640" y="720720"/>
            <a:ext cx="331308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6" name="Picture 3" descr=""/>
          <p:cNvPicPr/>
          <p:nvPr/>
        </p:nvPicPr>
        <p:blipFill>
          <a:blip r:embed="rId1"/>
          <a:stretch/>
        </p:blipFill>
        <p:spPr>
          <a:xfrm>
            <a:off x="179280" y="216000"/>
            <a:ext cx="2786040" cy="6426000"/>
          </a:xfrm>
          <a:prstGeom prst="rect">
            <a:avLst/>
          </a:prstGeom>
          <a:ln w="0">
            <a:noFill/>
          </a:ln>
        </p:spPr>
      </p:pic>
      <p:pic>
        <p:nvPicPr>
          <p:cNvPr id="1257" name="Picture 4" descr=""/>
          <p:cNvPicPr/>
          <p:nvPr/>
        </p:nvPicPr>
        <p:blipFill>
          <a:blip r:embed="rId2"/>
          <a:stretch/>
        </p:blipFill>
        <p:spPr>
          <a:xfrm>
            <a:off x="3419640" y="192240"/>
            <a:ext cx="4897440" cy="3236760"/>
          </a:xfrm>
          <a:prstGeom prst="rect">
            <a:avLst/>
          </a:prstGeom>
          <a:ln w="0">
            <a:noFill/>
          </a:ln>
        </p:spPr>
      </p:pic>
      <p:pic>
        <p:nvPicPr>
          <p:cNvPr id="1258" name="Picture 5" descr=""/>
          <p:cNvPicPr/>
          <p:nvPr/>
        </p:nvPicPr>
        <p:blipFill>
          <a:blip r:embed="rId3"/>
          <a:stretch/>
        </p:blipFill>
        <p:spPr>
          <a:xfrm>
            <a:off x="3889440" y="3645000"/>
            <a:ext cx="3957480" cy="28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Зима.av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restart="whenNotActive" nodeType="interactiveSeq" fill="hold">
                <p:stCondLst>
                  <p:cond evt="onClick">
                    <p:tgtEl>
                      <p:spTgt spid="1259"/>
                    </p:tgtEl>
                  </p:cond>
                </p:stCondLst>
                <p:childTnLst>
                  <p:par>
                    <p:cTn id="47" nodeType="clickEffect" fill="hold">
                      <p:stCondLst>
                        <p:cond evt="onClick">
                          <p:tgtEl>
                            <p:spTgt spid="1259"/>
                          </p:tgtEl>
                        </p:cond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0" dur="1" fill="hold"/>
                                        <p:tgtEl>
                                          <p:spTgt spid="12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61" name="Объект 3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321440" cy="6480000"/>
          </a:xfrm>
          <a:prstGeom prst="rect">
            <a:avLst/>
          </a:prstGeom>
          <a:ln w="28440">
            <a:solidFill>
              <a:srgbClr val="080808"/>
            </a:solidFill>
            <a:miter/>
          </a:ln>
        </p:spPr>
      </p:pic>
      <p:pic>
        <p:nvPicPr>
          <p:cNvPr id="1262" name="Объект 6" descr=""/>
          <p:cNvPicPr/>
          <p:nvPr/>
        </p:nvPicPr>
        <p:blipFill>
          <a:blip r:embed="rId2"/>
          <a:stretch/>
        </p:blipFill>
        <p:spPr>
          <a:xfrm>
            <a:off x="4643280" y="189000"/>
            <a:ext cx="4249800" cy="6480000"/>
          </a:xfrm>
          <a:prstGeom prst="rect">
            <a:avLst/>
          </a:prstGeom>
          <a:ln w="28440">
            <a:solidFill>
              <a:srgbClr val="08080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4" name=""/>
          <p:cNvSpPr txBox="1"/>
          <p:nvPr/>
        </p:nvSpPr>
        <p:spPr>
          <a:xfrm>
            <a:off x="826560" y="5373360"/>
            <a:ext cx="778356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Для перевозки больших корреспонденций использовали почтовые кареты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5" name="Picture 4" descr="rm_pcoach[1]"/>
          <p:cNvPicPr/>
          <p:nvPr/>
        </p:nvPicPr>
        <p:blipFill>
          <a:blip r:embed="rId1"/>
          <a:stretch/>
        </p:blipFill>
        <p:spPr>
          <a:xfrm>
            <a:off x="766800" y="376200"/>
            <a:ext cx="7632720" cy="48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4T14:10:17Z</dcterms:created>
  <dc:creator>asusf8ws</dc:creator>
  <dc:description/>
  <dc:language>en-US</dc:language>
  <cp:lastModifiedBy>Admin</cp:lastModifiedBy>
  <dcterms:modified xsi:type="dcterms:W3CDTF">2022-01-17T18:44:16Z</dcterms:modified>
  <cp:revision>60</cp:revision>
  <dc:subject/>
  <dc:title>Презентация PowerPoint</dc:title>
</cp:coreProperties>
</file>